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9983-F3C2-4EB3-B024-286D66B16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FEE4-0B5F-42EE-B95C-152ECD34D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8564-241C-42A0-A653-3CD8E0E36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9B2C-1017-4256-82BD-6C48B3C00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AF88-F9CE-4468-ABA5-9D8F05FAA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0050-865C-46D8-BD2C-54C6004AE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1A66-A189-4B0A-9F1E-09965D261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6E5B-9021-451E-B63D-0DCD88C46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DC17-F1AD-4AAC-B1F3-C20670489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3C28-6C87-4A3A-916B-C924C256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9923-F6B7-4467-877A-C9AAE4AF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2410-FAAF-4651-8D4D-140423C5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9F6BB-FD18-4338-A389-E0176239DB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ip-medien.com/" TargetMode="External"/><Relationship Id="rId2" Type="http://schemas.openxmlformats.org/officeDocument/2006/relationships/hyperlink" Target="mailto:cipmedien@aol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8088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704880"/>
            <a:ext cx="548640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ntscheidungsbaum zur Stellung einer ICD-10-Diagnose bei Sexualstörung (gestörtem Sexualverhalten) laut VDS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: Liegt eine nichtorganische sexuelle Funktionsstörung vor (F52)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17400" y="272880"/>
            <a:ext cx="55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 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9320" y="1743120"/>
            <a:ext cx="412200" cy="215640"/>
          </a:xfrm>
          <a:prstGeom prst="rect">
            <a:avLst/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4280" y="2876400"/>
            <a:ext cx="2133720" cy="8240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önnen organische Ursachen für die Störung sexuellen Funktionen ausgeschlossen werden?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n der Regel können organische Ursachen kaum mit völliger Sicherheit ausgeschlossen werden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4280" y="1962000"/>
            <a:ext cx="2133720" cy="45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onnten Sie im VDS14-Befund eine sexuelle Funktionsstörung nachweisen?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DS14/3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4280" y="4170240"/>
            <a:ext cx="2133720" cy="5806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onnten Sie im VDS14-Befund eine Verminderung oder einen Verlust des sexuellen Interesses nachweisen?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DS14/1 und 3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57480" y="3867120"/>
            <a:ext cx="1981080" cy="11890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ruhen diese nicht auf anderen sexuellen Schwierigkeiten wie Erektionsstörungen, Vaginismus oder ähnliches, und führen diese zu seltenerer Initiierung sexueller Aktivitäten.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ann eine Verursachung durch eine Depression ausgeschlossen werden?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gl. Seite 12 –2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554800" y="4105440"/>
            <a:ext cx="1147680" cy="702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52.0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Mangel oder Verlust von sexuellem Verlang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4280" y="5294160"/>
            <a:ext cx="2133720" cy="5806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onnten Sie im VDS14-Befund Angst und Abneigung gegen Sexualität und sexuelle Aktivitäten nachweisen?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us VDS14/3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97400" y="5413320"/>
            <a:ext cx="1147680" cy="337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52.10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sexuelle Avers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4280" y="6448320"/>
            <a:ext cx="2133720" cy="5806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onnten Sie im VDS14-Befund eine Störung des Erregungsablaufs in Form von Erektionsstörungen nachweisen?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us VDS14/3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7480" y="6326280"/>
            <a:ext cx="1981080" cy="8240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ruhen diese in Schwierigkeiten eine Erektion zu erlangen oder aufrechtzuerhalten, wobei diese Schwierigkeiten in anderen Situationen, z.B. im Schlaf, bei Masturbation usw., nicht auftreten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554800" y="6505560"/>
            <a:ext cx="1147680" cy="459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52.2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Versagen genitaler Reaktion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>
            <a:stCxn id="46" idx="2"/>
            <a:endCxn id="45" idx="0"/>
          </p:cNvCxnSpPr>
          <p:nvPr/>
        </p:nvCxnSpPr>
        <p:spPr>
          <a:xfrm>
            <a:off x="1380960" y="2421000"/>
            <a:ext cx="360" cy="45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5" idx="2"/>
            <a:endCxn id="47" idx="0"/>
          </p:cNvCxnSpPr>
          <p:nvPr/>
        </p:nvCxnSpPr>
        <p:spPr>
          <a:xfrm>
            <a:off x="1380960" y="3700440"/>
            <a:ext cx="360" cy="47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3"/>
            <a:endCxn id="48" idx="1"/>
          </p:cNvCxnSpPr>
          <p:nvPr/>
        </p:nvCxnSpPr>
        <p:spPr>
          <a:xfrm>
            <a:off x="2448000" y="4460400"/>
            <a:ext cx="6098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8" idx="3"/>
            <a:endCxn id="49" idx="1"/>
          </p:cNvCxnSpPr>
          <p:nvPr/>
        </p:nvCxnSpPr>
        <p:spPr>
          <a:xfrm flipV="1">
            <a:off x="5038560" y="4456440"/>
            <a:ext cx="51660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0" idx="2"/>
            <a:endCxn id="52" idx="0"/>
          </p:cNvCxnSpPr>
          <p:nvPr/>
        </p:nvCxnSpPr>
        <p:spPr>
          <a:xfrm>
            <a:off x="1380960" y="5874840"/>
            <a:ext cx="360" cy="57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0" idx="3"/>
            <a:endCxn id="51" idx="1"/>
          </p:cNvCxnSpPr>
          <p:nvPr/>
        </p:nvCxnSpPr>
        <p:spPr>
          <a:xfrm flipV="1">
            <a:off x="2448000" y="5581800"/>
            <a:ext cx="1049760" cy="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2" idx="3"/>
            <a:endCxn id="53" idx="1"/>
          </p:cNvCxnSpPr>
          <p:nvPr/>
        </p:nvCxnSpPr>
        <p:spPr>
          <a:xfrm flipV="1">
            <a:off x="2448000" y="6738120"/>
            <a:ext cx="609840" cy="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3" idx="3"/>
            <a:endCxn id="54" idx="1"/>
          </p:cNvCxnSpPr>
          <p:nvPr/>
        </p:nvCxnSpPr>
        <p:spPr>
          <a:xfrm flipV="1">
            <a:off x="5038560" y="6734880"/>
            <a:ext cx="51660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" name=""/>
          <p:cNvSpPr/>
          <p:nvPr/>
        </p:nvSpPr>
        <p:spPr>
          <a:xfrm>
            <a:off x="314280" y="7564320"/>
            <a:ext cx="2133720" cy="5806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onnten Sie im VDS14-Befund eine Störung des Erregungsablaufs in Form von Ejakulationsstörungen nachweisen?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us VDS14/3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67200" y="7626240"/>
            <a:ext cx="1457280" cy="45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ann kein Orgasmus mit Ejakulation erreicht werden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038560" y="7564320"/>
            <a:ext cx="1663920" cy="5806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eten Schwierigkeiten, die Ejakulation so zu kontrollieren, auf, die eine befriedigende Sexualität verhindern?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0880" y="8744040"/>
            <a:ext cx="1457280" cy="2156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iter auf Seite 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25880" y="8609040"/>
            <a:ext cx="1322280" cy="337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52.3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Orgasmusstörung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05240" y="8609040"/>
            <a:ext cx="1322640" cy="337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F52.4</a:t>
            </a:r>
            <a:br>
              <a:rPr sz="800"/>
            </a:b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Ejaculatio praeco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52" idx="2"/>
            <a:endCxn id="63" idx="0"/>
          </p:cNvCxnSpPr>
          <p:nvPr/>
        </p:nvCxnSpPr>
        <p:spPr>
          <a:xfrm>
            <a:off x="1380960" y="7029000"/>
            <a:ext cx="360" cy="535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3" idx="2"/>
            <a:endCxn id="66" idx="0"/>
          </p:cNvCxnSpPr>
          <p:nvPr/>
        </p:nvCxnSpPr>
        <p:spPr>
          <a:xfrm flipH="1">
            <a:off x="1379520" y="8145000"/>
            <a:ext cx="1800" cy="599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63" idx="3"/>
            <a:endCxn id="64" idx="1"/>
          </p:cNvCxnSpPr>
          <p:nvPr/>
        </p:nvCxnSpPr>
        <p:spPr>
          <a:xfrm>
            <a:off x="2448000" y="7854480"/>
            <a:ext cx="61956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"/>
          <p:cNvCxnSpPr>
            <a:stCxn id="64" idx="3"/>
            <a:endCxn id="65" idx="1"/>
          </p:cNvCxnSpPr>
          <p:nvPr/>
        </p:nvCxnSpPr>
        <p:spPr>
          <a:xfrm flipV="1">
            <a:off x="4524480" y="7854480"/>
            <a:ext cx="5144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4" idx="2"/>
            <a:endCxn id="67" idx="0"/>
          </p:cNvCxnSpPr>
          <p:nvPr/>
        </p:nvCxnSpPr>
        <p:spPr>
          <a:xfrm flipH="1">
            <a:off x="3786840" y="8085240"/>
            <a:ext cx="936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5" idx="2"/>
            <a:endCxn id="68" idx="0"/>
          </p:cNvCxnSpPr>
          <p:nvPr/>
        </p:nvCxnSpPr>
        <p:spPr>
          <a:xfrm flipH="1">
            <a:off x="5866560" y="8145000"/>
            <a:ext cx="4320" cy="46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1380960" y="242712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80960" y="370836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" name=""/>
          <p:cNvCxnSpPr>
            <a:stCxn id="47" idx="2"/>
            <a:endCxn id="50" idx="0"/>
          </p:cNvCxnSpPr>
          <p:nvPr/>
        </p:nvCxnSpPr>
        <p:spPr>
          <a:xfrm>
            <a:off x="1380960" y="4750920"/>
            <a:ext cx="360" cy="54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" name=""/>
          <p:cNvSpPr/>
          <p:nvPr/>
        </p:nvSpPr>
        <p:spPr>
          <a:xfrm>
            <a:off x="1380960" y="475776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457360" y="424980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038560" y="425304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537372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379520" y="58816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48000" y="653112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038560" y="65278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379520" y="705024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79520" y="815184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48000" y="764532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45000" y="764532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33640" y="809136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870520" y="815184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24080" y="1679400"/>
            <a:ext cx="3386160" cy="5508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opyright: CIP-Medien Verlag Münch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cip-medien.com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E-mail: </a:t>
            </a:r>
            <a:r>
              <a:rPr b="0" lang="de-DE" sz="1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cipmedien@aol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utoren: S. Holzer und S. Sul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01560" y="744480"/>
            <a:ext cx="592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2: Liegt eine Störung der Geschlechtsidentiät (F64) oder der Sexualpräferenz (F65) vor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17400" y="272880"/>
            <a:ext cx="55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 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8560" y="1533600"/>
            <a:ext cx="412200" cy="215640"/>
          </a:xfrm>
          <a:prstGeom prst="rect">
            <a:avLst/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1752480"/>
            <a:ext cx="2133360" cy="45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onnten Sie im VDS14-Befund eine sexuelle Identitätsstörung nachweisen?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DS14/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00200" y="221760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962440"/>
            <a:ext cx="2133360" cy="45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onnten Sie im VDS14-Befund Transsexualität finden?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 aus VDS14/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76560" y="2962440"/>
            <a:ext cx="1533600" cy="45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steht die transsexuelle Identität seit mindesten zwei Jahren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76720" y="2779560"/>
            <a:ext cx="1533600" cy="8240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eruht dies nicht auf Ursachen intersexuellen, gonosomalen oder genetischen Anomalien oder einer anderen psychischen Störung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68960" y="1771560"/>
            <a:ext cx="1147680" cy="337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64.0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Transsexualismu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" name=""/>
          <p:cNvCxnSpPr>
            <a:stCxn id="98" idx="3"/>
            <a:endCxn id="99" idx="1"/>
          </p:cNvCxnSpPr>
          <p:nvPr/>
        </p:nvCxnSpPr>
        <p:spPr>
          <a:xfrm>
            <a:off x="2666880" y="3195360"/>
            <a:ext cx="410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96" idx="2"/>
            <a:endCxn id="98" idx="0"/>
          </p:cNvCxnSpPr>
          <p:nvPr/>
        </p:nvCxnSpPr>
        <p:spPr>
          <a:xfrm>
            <a:off x="1599840" y="2217240"/>
            <a:ext cx="1080" cy="74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"/>
          <p:cNvCxnSpPr>
            <a:stCxn id="99" idx="3"/>
            <a:endCxn id="100" idx="1"/>
          </p:cNvCxnSpPr>
          <p:nvPr/>
        </p:nvCxnSpPr>
        <p:spPr>
          <a:xfrm>
            <a:off x="4610160" y="3195360"/>
            <a:ext cx="467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0" idx="0"/>
            <a:endCxn id="101" idx="2"/>
          </p:cNvCxnSpPr>
          <p:nvPr/>
        </p:nvCxnSpPr>
        <p:spPr>
          <a:xfrm flipV="1">
            <a:off x="5843160" y="2136600"/>
            <a:ext cx="1080" cy="64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2666880" y="298116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610160" y="298116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843520" y="256536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4317840"/>
            <a:ext cx="2133360" cy="45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onnten Sie im VDS14-Befund Transvestismus finden?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 aus VDS14/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98" idx="2"/>
            <a:endCxn id="109" idx="0"/>
          </p:cNvCxnSpPr>
          <p:nvPr/>
        </p:nvCxnSpPr>
        <p:spPr>
          <a:xfrm>
            <a:off x="1599840" y="3427200"/>
            <a:ext cx="1080" cy="89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" name=""/>
          <p:cNvSpPr/>
          <p:nvPr/>
        </p:nvSpPr>
        <p:spPr>
          <a:xfrm>
            <a:off x="1600200" y="342756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4080" y="4016520"/>
            <a:ext cx="1533600" cy="10674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st der Transvestitismus mit sexueller Erregung und dem Verlangen, mit dem eingetretenen Orgasmus und der damit abklingenden Erregung, die Kleidung wieder abzulegen, verbunden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94360" y="4317840"/>
            <a:ext cx="1533600" cy="45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steht kein Wunsch nach langfristiger Geschlechtsumwandlung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80120" y="5621400"/>
            <a:ext cx="1147680" cy="702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F64.1</a:t>
            </a:r>
            <a:br>
              <a:rPr sz="800"/>
            </a:b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 Transvestitismus unter Beibehaltung beider Geschlechtsroll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16320" y="5743440"/>
            <a:ext cx="1147680" cy="459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F65.1</a:t>
            </a:r>
            <a:br>
              <a:rPr sz="800"/>
            </a:b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 fetischistischer Transvestitismu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66880" y="43354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9" idx="3"/>
            <a:endCxn id="112" idx="1"/>
          </p:cNvCxnSpPr>
          <p:nvPr/>
        </p:nvCxnSpPr>
        <p:spPr>
          <a:xfrm>
            <a:off x="2666880" y="4551480"/>
            <a:ext cx="45792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12" idx="2"/>
            <a:endCxn id="115" idx="0"/>
          </p:cNvCxnSpPr>
          <p:nvPr/>
        </p:nvCxnSpPr>
        <p:spPr>
          <a:xfrm>
            <a:off x="3890520" y="5092560"/>
            <a:ext cx="1080" cy="642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890880" y="508320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"/>
          <p:cNvCxnSpPr>
            <a:stCxn id="112" idx="3"/>
            <a:endCxn id="113" idx="1"/>
          </p:cNvCxnSpPr>
          <p:nvPr/>
        </p:nvCxnSpPr>
        <p:spPr>
          <a:xfrm flipV="1">
            <a:off x="4657320" y="4551120"/>
            <a:ext cx="43740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3" idx="2"/>
            <a:endCxn id="114" idx="0"/>
          </p:cNvCxnSpPr>
          <p:nvPr/>
        </p:nvCxnSpPr>
        <p:spPr>
          <a:xfrm flipH="1">
            <a:off x="5854320" y="4782960"/>
            <a:ext cx="7200" cy="82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5861160" y="478296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57680" y="43354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4960" y="5689440"/>
            <a:ext cx="2133720" cy="5806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stehen Präferenzen ungewöhnlicher sexueller Objekte oder Praktiken, die als hauptsächliche Quelle sexueller Erregung dienen, seit mindestens sechs Monaten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09" idx="2"/>
            <a:endCxn id="124" idx="0"/>
          </p:cNvCxnSpPr>
          <p:nvPr/>
        </p:nvCxnSpPr>
        <p:spPr>
          <a:xfrm>
            <a:off x="1600200" y="4782960"/>
            <a:ext cx="2160" cy="90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601640" y="478296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7269120"/>
            <a:ext cx="2133360" cy="45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onnten Sie im VDS14-Befund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tischismus finden?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 aus VDS14/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14720" y="7147080"/>
            <a:ext cx="2133720" cy="702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tellt der Fetisch die wichtigste Quelle sexueller Erregung dar oder ist er für die sexuelle Befriedigung unerläßlich?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(Fetischistische Phantasien stellen keine Störung dar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89440" y="7326360"/>
            <a:ext cx="947880" cy="337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65.0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etischismus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24" idx="2"/>
            <a:endCxn id="127" idx="0"/>
          </p:cNvCxnSpPr>
          <p:nvPr/>
        </p:nvCxnSpPr>
        <p:spPr>
          <a:xfrm flipH="1">
            <a:off x="1599840" y="6276960"/>
            <a:ext cx="216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7" idx="3"/>
            <a:endCxn id="128" idx="1"/>
          </p:cNvCxnSpPr>
          <p:nvPr/>
        </p:nvCxnSpPr>
        <p:spPr>
          <a:xfrm>
            <a:off x="2666880" y="7502040"/>
            <a:ext cx="448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8" idx="3"/>
            <a:endCxn id="129" idx="1"/>
          </p:cNvCxnSpPr>
          <p:nvPr/>
        </p:nvCxnSpPr>
        <p:spPr>
          <a:xfrm>
            <a:off x="5248080" y="7502040"/>
            <a:ext cx="4323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3" name=""/>
          <p:cNvSpPr/>
          <p:nvPr/>
        </p:nvSpPr>
        <p:spPr>
          <a:xfrm>
            <a:off x="1601640" y="627696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57520" y="729612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48440" y="729612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70120" y="8407440"/>
            <a:ext cx="1457280" cy="2156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iter auf Seite 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27" idx="2"/>
            <a:endCxn id="136" idx="0"/>
          </p:cNvCxnSpPr>
          <p:nvPr/>
        </p:nvCxnSpPr>
        <p:spPr>
          <a:xfrm flipH="1">
            <a:off x="1598400" y="7734240"/>
            <a:ext cx="2160" cy="67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8" name=""/>
          <p:cNvSpPr/>
          <p:nvPr/>
        </p:nvSpPr>
        <p:spPr>
          <a:xfrm>
            <a:off x="1601640" y="774864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173400" y="1752480"/>
            <a:ext cx="1341360" cy="580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64.8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sonstige Störungen der Geschlechtsidentitä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833640" y="234324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33640" y="27478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861160" y="3611520"/>
            <a:ext cx="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61160" y="410220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017400" y="272880"/>
            <a:ext cx="55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 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76440" y="1012680"/>
            <a:ext cx="2133360" cy="45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onnten Sie im VDS14-Befund Exhibitionismus finden?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 aus VDS14/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89440" y="1069920"/>
            <a:ext cx="1147680" cy="337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F65.2</a:t>
            </a:r>
            <a:br>
              <a:rPr sz="800"/>
            </a:b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Exhibitionisms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46" idx="3"/>
            <a:endCxn id="147" idx="1"/>
          </p:cNvCxnSpPr>
          <p:nvPr/>
        </p:nvCxnSpPr>
        <p:spPr>
          <a:xfrm>
            <a:off x="2809800" y="1246320"/>
            <a:ext cx="1070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676440" y="1994040"/>
            <a:ext cx="2133360" cy="45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Konnten Sie im VDS14-Befund 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Voyeurismus finden?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( aus VDS14/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46" idx="2"/>
            <a:endCxn id="149" idx="0"/>
          </p:cNvCxnSpPr>
          <p:nvPr/>
        </p:nvCxnSpPr>
        <p:spPr>
          <a:xfrm>
            <a:off x="1742760" y="1477800"/>
            <a:ext cx="1080" cy="51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1" name=""/>
          <p:cNvSpPr/>
          <p:nvPr/>
        </p:nvSpPr>
        <p:spPr>
          <a:xfrm>
            <a:off x="2809800" y="201600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09800" y="103176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43120" y="147780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724040" y="272880"/>
            <a:ext cx="0" cy="73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89440" y="2055960"/>
            <a:ext cx="1147680" cy="337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F65.3</a:t>
            </a:r>
            <a:br>
              <a:rPr sz="800"/>
            </a:b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 Voyeurismus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" name=""/>
          <p:cNvCxnSpPr>
            <a:stCxn id="149" idx="3"/>
            <a:endCxn id="155" idx="1"/>
          </p:cNvCxnSpPr>
          <p:nvPr/>
        </p:nvCxnSpPr>
        <p:spPr>
          <a:xfrm>
            <a:off x="2809800" y="2226960"/>
            <a:ext cx="1070640" cy="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7" name=""/>
          <p:cNvSpPr/>
          <p:nvPr/>
        </p:nvSpPr>
        <p:spPr>
          <a:xfrm>
            <a:off x="676440" y="3022560"/>
            <a:ext cx="2133360" cy="45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onnten Sie im VDS14-Befund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dismus oder Masochismus finden?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 aus VDS14/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89440" y="3081240"/>
            <a:ext cx="1282680" cy="337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65.5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adomasochismus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7" idx="3"/>
            <a:endCxn id="158" idx="1"/>
          </p:cNvCxnSpPr>
          <p:nvPr/>
        </p:nvCxnSpPr>
        <p:spPr>
          <a:xfrm>
            <a:off x="2809800" y="3255480"/>
            <a:ext cx="10706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49" idx="2"/>
            <a:endCxn id="157" idx="0"/>
          </p:cNvCxnSpPr>
          <p:nvPr/>
        </p:nvCxnSpPr>
        <p:spPr>
          <a:xfrm>
            <a:off x="1742760" y="2458800"/>
            <a:ext cx="1080" cy="56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1" name=""/>
          <p:cNvSpPr/>
          <p:nvPr/>
        </p:nvSpPr>
        <p:spPr>
          <a:xfrm>
            <a:off x="2809800" y="304164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24040" y="245916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6440" y="3994200"/>
            <a:ext cx="2133360" cy="45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onnten Sie im VDS14-Befund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ädophilie finden?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 aus VDS14/5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89440" y="4052880"/>
            <a:ext cx="1147680" cy="337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65.4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ädophilie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" name=""/>
          <p:cNvCxnSpPr>
            <a:stCxn id="163" idx="3"/>
            <a:endCxn id="164" idx="1"/>
          </p:cNvCxnSpPr>
          <p:nvPr/>
        </p:nvCxnSpPr>
        <p:spPr>
          <a:xfrm>
            <a:off x="2809800" y="4227120"/>
            <a:ext cx="10706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" name=""/>
          <p:cNvSpPr/>
          <p:nvPr/>
        </p:nvSpPr>
        <p:spPr>
          <a:xfrm>
            <a:off x="2809800" y="40132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"/>
          <p:cNvCxnSpPr>
            <a:stCxn id="157" idx="2"/>
            <a:endCxn id="163" idx="0"/>
          </p:cNvCxnSpPr>
          <p:nvPr/>
        </p:nvCxnSpPr>
        <p:spPr>
          <a:xfrm>
            <a:off x="1742760" y="3487320"/>
            <a:ext cx="1080" cy="50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8" name=""/>
          <p:cNvSpPr/>
          <p:nvPr/>
        </p:nvSpPr>
        <p:spPr>
          <a:xfrm>
            <a:off x="1724040" y="34876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76440" y="5003640"/>
            <a:ext cx="2133360" cy="702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Konnten Sie im VDS14-Befund 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andere Sexualpräferenzstörungen, wie z.B. Sodomie, Frotteurismus, Nekrophilie oder ähnliches, finden?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( aus VDS14/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89440" y="5060880"/>
            <a:ext cx="1147680" cy="580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65.8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onstige Störung der Sexualpräferenz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" name=""/>
          <p:cNvCxnSpPr>
            <a:stCxn id="169" idx="3"/>
            <a:endCxn id="170" idx="1"/>
          </p:cNvCxnSpPr>
          <p:nvPr/>
        </p:nvCxnSpPr>
        <p:spPr>
          <a:xfrm>
            <a:off x="2809800" y="5358960"/>
            <a:ext cx="10706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2809800" y="513720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3" name=""/>
          <p:cNvCxnSpPr>
            <a:stCxn id="163" idx="2"/>
            <a:endCxn id="169" idx="0"/>
          </p:cNvCxnSpPr>
          <p:nvPr/>
        </p:nvCxnSpPr>
        <p:spPr>
          <a:xfrm>
            <a:off x="1742760" y="4459320"/>
            <a:ext cx="1080" cy="54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4" name=""/>
          <p:cNvSpPr/>
          <p:nvPr/>
        </p:nvSpPr>
        <p:spPr>
          <a:xfrm>
            <a:off x="1724040" y="445932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6440" y="6278400"/>
            <a:ext cx="2133360" cy="702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Konnten Sie im VDS14-Befund 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eine Form sexueller Delinquenz (Mißbrauch, Inzest, Vergewaltigung) finden?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( aus VDS14/5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762360" y="6213600"/>
            <a:ext cx="2409840" cy="8240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men sexueller Delinquenz finden sich, mit Ausnahme der Pädophilie nicht in ICD-10, lassen sich aber unter Umständen in sonstige Störung der Sexualpräferenz* (F65.8) oder nicht näher bezeichnete Störung der Sexualpräferenz* (F65.9) einordne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"/>
          <p:cNvCxnSpPr>
            <a:stCxn id="169" idx="2"/>
            <a:endCxn id="175" idx="0"/>
          </p:cNvCxnSpPr>
          <p:nvPr/>
        </p:nvCxnSpPr>
        <p:spPr>
          <a:xfrm>
            <a:off x="1742760" y="5713200"/>
            <a:ext cx="1080" cy="56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5" idx="3"/>
            <a:endCxn id="176" idx="1"/>
          </p:cNvCxnSpPr>
          <p:nvPr/>
        </p:nvCxnSpPr>
        <p:spPr>
          <a:xfrm flipV="1">
            <a:off x="2809800" y="6628680"/>
            <a:ext cx="95328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9" name=""/>
          <p:cNvSpPr/>
          <p:nvPr/>
        </p:nvSpPr>
        <p:spPr>
          <a:xfrm>
            <a:off x="2809800" y="64198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743120" y="571356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6440" y="7554960"/>
            <a:ext cx="2133360" cy="5806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onnten Sie im VDS14-Befund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hrere Form von Störungen der Sexualpräferenz finden?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 aus VDS14/4 und 5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024440" y="7548480"/>
            <a:ext cx="1147680" cy="580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65.6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ultiple Störung der Sexualpräferenz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1" idx="3"/>
            <a:endCxn id="182" idx="1"/>
          </p:cNvCxnSpPr>
          <p:nvPr/>
        </p:nvCxnSpPr>
        <p:spPr>
          <a:xfrm>
            <a:off x="2809440" y="7848360"/>
            <a:ext cx="12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5" idx="2"/>
            <a:endCxn id="181" idx="0"/>
          </p:cNvCxnSpPr>
          <p:nvPr/>
        </p:nvCxnSpPr>
        <p:spPr>
          <a:xfrm>
            <a:off x="1742760" y="6988320"/>
            <a:ext cx="1080" cy="56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5" name=""/>
          <p:cNvSpPr/>
          <p:nvPr/>
        </p:nvSpPr>
        <p:spPr>
          <a:xfrm>
            <a:off x="2809800" y="76312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43120" y="700236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90600" y="8620200"/>
            <a:ext cx="562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 Überprüfen Sie die genauere Definition der Störungen mittels ICD-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017400" y="272880"/>
            <a:ext cx="55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 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3520" y="1569960"/>
            <a:ext cx="2133360" cy="8240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Konnten Sie im VDS14-Befund eine Störung des Erregungsverlaufs mit vermindertem Lustgefühl und fehlender vaginaler Feuchtigkeit (Lubrikation) nachweisen?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(aus VDS14/3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716280" y="1746360"/>
            <a:ext cx="1147680" cy="459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52.2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Versagen genitaler Reaktion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3520" y="3017880"/>
            <a:ext cx="2133360" cy="45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onnten Sie im VDS14-Befund  Orgasmusstörungen nachweisen ?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us VDS14/3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71960" y="3017880"/>
            <a:ext cx="1457280" cy="45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rd der Orgasmus ohne entsprechendes Lustgefühl erleb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18120" y="3078000"/>
            <a:ext cx="1457280" cy="3373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itt der Orgasmus nicht oder zu spät auf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186520" y="3889440"/>
            <a:ext cx="1322280" cy="337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52.3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Orgasmusstörung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30640" y="3828960"/>
            <a:ext cx="1322280" cy="459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51.11 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angelnde sexuelle Befriedig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3520" y="4859280"/>
            <a:ext cx="2133360" cy="5806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Konnten Sie im VDS14-Befund  Mißempfindungen, Schmerzen oder Verkrampfung beim Akt nachweisen ?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(aus VDS14/3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0" idx="3"/>
            <a:endCxn id="191" idx="1"/>
          </p:cNvCxnSpPr>
          <p:nvPr/>
        </p:nvCxnSpPr>
        <p:spPr>
          <a:xfrm>
            <a:off x="2666520" y="1985760"/>
            <a:ext cx="1040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" name=""/>
          <p:cNvCxnSpPr>
            <a:stCxn id="190" idx="2"/>
            <a:endCxn id="192" idx="0"/>
          </p:cNvCxnSpPr>
          <p:nvPr/>
        </p:nvCxnSpPr>
        <p:spPr>
          <a:xfrm>
            <a:off x="1599840" y="2401560"/>
            <a:ext cx="1080" cy="61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"/>
          <p:cNvCxnSpPr>
            <a:stCxn id="192" idx="3"/>
            <a:endCxn id="193" idx="1"/>
          </p:cNvCxnSpPr>
          <p:nvPr/>
        </p:nvCxnSpPr>
        <p:spPr>
          <a:xfrm>
            <a:off x="2666520" y="3250800"/>
            <a:ext cx="505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" name=""/>
          <p:cNvCxnSpPr>
            <a:stCxn id="193" idx="3"/>
            <a:endCxn id="194" idx="1"/>
          </p:cNvCxnSpPr>
          <p:nvPr/>
        </p:nvCxnSpPr>
        <p:spPr>
          <a:xfrm flipV="1">
            <a:off x="4629240" y="3249360"/>
            <a:ext cx="4896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193" idx="2"/>
            <a:endCxn id="196" idx="0"/>
          </p:cNvCxnSpPr>
          <p:nvPr/>
        </p:nvCxnSpPr>
        <p:spPr>
          <a:xfrm flipH="1">
            <a:off x="3892320" y="3482640"/>
            <a:ext cx="864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94" idx="2"/>
            <a:endCxn id="195" idx="0"/>
          </p:cNvCxnSpPr>
          <p:nvPr/>
        </p:nvCxnSpPr>
        <p:spPr>
          <a:xfrm>
            <a:off x="5846760" y="3421080"/>
            <a:ext cx="2160" cy="45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92" idx="2"/>
            <a:endCxn id="197" idx="0"/>
          </p:cNvCxnSpPr>
          <p:nvPr/>
        </p:nvCxnSpPr>
        <p:spPr>
          <a:xfrm>
            <a:off x="1599840" y="3482640"/>
            <a:ext cx="1080" cy="1377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5" name=""/>
          <p:cNvSpPr/>
          <p:nvPr/>
        </p:nvSpPr>
        <p:spPr>
          <a:xfrm>
            <a:off x="4427640" y="4799160"/>
            <a:ext cx="963360" cy="5806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eruhen diese auf Spasmen der Beckenboden-muskulatur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35160" y="4921200"/>
            <a:ext cx="1003320" cy="45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eruhen diese auf fehlender  Lubrikation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753160" y="4859280"/>
            <a:ext cx="981000" cy="5806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ruhen diese auf nicht ersichtlichen Ursachen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8" name=""/>
          <p:cNvCxnSpPr>
            <a:stCxn id="197" idx="3"/>
            <a:endCxn id="206" idx="1"/>
          </p:cNvCxnSpPr>
          <p:nvPr/>
        </p:nvCxnSpPr>
        <p:spPr>
          <a:xfrm>
            <a:off x="2666520" y="5153040"/>
            <a:ext cx="3690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"/>
          <p:cNvCxnSpPr>
            <a:stCxn id="206" idx="3"/>
            <a:endCxn id="205" idx="1"/>
          </p:cNvCxnSpPr>
          <p:nvPr/>
        </p:nvCxnSpPr>
        <p:spPr>
          <a:xfrm>
            <a:off x="4038120" y="5154120"/>
            <a:ext cx="389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5" idx="3"/>
            <a:endCxn id="207" idx="1"/>
          </p:cNvCxnSpPr>
          <p:nvPr/>
        </p:nvCxnSpPr>
        <p:spPr>
          <a:xfrm flipV="1">
            <a:off x="5391000" y="5152680"/>
            <a:ext cx="362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"/>
          <p:cNvSpPr/>
          <p:nvPr/>
        </p:nvSpPr>
        <p:spPr>
          <a:xfrm>
            <a:off x="4341960" y="5975280"/>
            <a:ext cx="1135080" cy="459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52.5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nichtorganischer Vaginismu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35160" y="5918040"/>
            <a:ext cx="1003320" cy="580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52.2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Versagen genitaler Reaktion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713560" y="5973840"/>
            <a:ext cx="1058760" cy="459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F52.6 nichtorganische Dyspareun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stCxn id="206" idx="2"/>
            <a:endCxn id="212" idx="0"/>
          </p:cNvCxnSpPr>
          <p:nvPr/>
        </p:nvCxnSpPr>
        <p:spPr>
          <a:xfrm>
            <a:off x="3536640" y="5385960"/>
            <a:ext cx="1080" cy="52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"/>
          <p:cNvCxnSpPr>
            <a:stCxn id="205" idx="2"/>
            <a:endCxn id="211" idx="0"/>
          </p:cNvCxnSpPr>
          <p:nvPr/>
        </p:nvCxnSpPr>
        <p:spPr>
          <a:xfrm>
            <a:off x="4909680" y="550872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"/>
          <p:cNvCxnSpPr>
            <a:stCxn id="207" idx="2"/>
            <a:endCxn id="213" idx="0"/>
          </p:cNvCxnSpPr>
          <p:nvPr/>
        </p:nvCxnSpPr>
        <p:spPr>
          <a:xfrm>
            <a:off x="6243120" y="5446440"/>
            <a:ext cx="1080" cy="518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7" name=""/>
          <p:cNvSpPr/>
          <p:nvPr/>
        </p:nvSpPr>
        <p:spPr>
          <a:xfrm>
            <a:off x="533520" y="7031160"/>
            <a:ext cx="2133360" cy="5806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onnten Sie im VDS14-Befund  eine Steigerung des sexuellen Verlangens nachweisen ?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us VDS14/3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8" name=""/>
          <p:cNvCxnSpPr>
            <a:stCxn id="197" idx="2"/>
            <a:endCxn id="217" idx="0"/>
          </p:cNvCxnSpPr>
          <p:nvPr/>
        </p:nvCxnSpPr>
        <p:spPr>
          <a:xfrm>
            <a:off x="1599840" y="5446440"/>
            <a:ext cx="1080" cy="1585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3192480" y="7031160"/>
            <a:ext cx="1457280" cy="5806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ann eine Verursachung durch eine Manie ausgeschlossen werden?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gl. Seite 8 – 1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186520" y="7031160"/>
            <a:ext cx="1457280" cy="5806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ann eine Verursachung durch eine Demenz ausgeschlossen werden?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gl. Seite 45 – 49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81640" y="8231040"/>
            <a:ext cx="1058760" cy="580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52.7 gesteigertes sexuelles Verlang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7" idx="3"/>
            <a:endCxn id="219" idx="1"/>
          </p:cNvCxnSpPr>
          <p:nvPr/>
        </p:nvCxnSpPr>
        <p:spPr>
          <a:xfrm>
            <a:off x="2666880" y="7324200"/>
            <a:ext cx="526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3" name=""/>
          <p:cNvCxnSpPr>
            <a:stCxn id="219" idx="3"/>
            <a:endCxn id="220" idx="1"/>
          </p:cNvCxnSpPr>
          <p:nvPr/>
        </p:nvCxnSpPr>
        <p:spPr>
          <a:xfrm>
            <a:off x="4649400" y="7324200"/>
            <a:ext cx="537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4" name=""/>
          <p:cNvCxnSpPr>
            <a:stCxn id="220" idx="2"/>
            <a:endCxn id="221" idx="0"/>
          </p:cNvCxnSpPr>
          <p:nvPr/>
        </p:nvCxnSpPr>
        <p:spPr>
          <a:xfrm flipH="1">
            <a:off x="5911200" y="7618320"/>
            <a:ext cx="3960" cy="60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5" name=""/>
          <p:cNvSpPr/>
          <p:nvPr/>
        </p:nvSpPr>
        <p:spPr>
          <a:xfrm>
            <a:off x="1600200" y="876240"/>
            <a:ext cx="0" cy="69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666880" y="176832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666880" y="303696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900600" y="348300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48200" y="34210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600200" y="544680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4004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348300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629240" y="303516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038480" y="49402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81640" y="49402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910040" y="550872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243480" y="544680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666880" y="49402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537000" y="538632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649760" y="711036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666880" y="711036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915160" y="761832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2T17:27:17Z</dcterms:created>
  <dc:creator>stefan holzer</dc:creator>
  <dc:description/>
  <dc:language>en-US</dc:language>
  <cp:lastModifiedBy>Dr. Sulz</cp:lastModifiedBy>
  <dcterms:modified xsi:type="dcterms:W3CDTF">2006-02-12T06:35:17Z</dcterms:modified>
  <cp:revision>25</cp:revision>
  <dc:subject/>
  <dc:title>PowerPoint-Präsentation</dc:title>
</cp:coreProperties>
</file>